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4D25E-3930-4DB9-BC61-8465D4B6E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7DB62-25F5-4E5D-B046-0B15E90B0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C670B-2FDC-445E-8FBB-02DB30700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6727E-FC87-4F84-9DF7-8D563CBA5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B9A40-2092-441E-AF9A-3C7C8C0F1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097BD-EC7E-4020-9035-3C06F6707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D6A04-98B9-4921-AAF8-33F3E37DF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56D4E-991B-4F56-A894-7C8FD3D32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E869B-BF3C-4154-81DC-F57FB0DEB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35BB0-9DD2-4609-98E7-538A6D1FE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32F16-5E98-43A8-9E49-A2BBF1B74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9D561-F4FD-4145-8BC7-5580C2DBE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69E9B-B097-41D0-A99B-10D0E54FEB25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504d"/>
                </a:solidFill>
                <a:latin typeface="Calibri"/>
              </a:rPr>
              <a:t>Me llamo _______      Clase 7 il</a:t>
            </a:r>
            <a:br>
              <a:rPr sz="3200"/>
            </a:br>
            <a:r>
              <a:rPr b="0" lang="en-US" sz="3200" spc="-1" strike="noStrike">
                <a:solidFill>
                  <a:srgbClr val="c0504d"/>
                </a:solidFill>
                <a:latin typeface="Calibri"/>
              </a:rPr>
              <a:t>La fecha es el 5 de junio del 201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304560" y="1371240"/>
            <a:ext cx="8915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0066"/>
                </a:solidFill>
                <a:latin typeface="Calibri"/>
              </a:rPr>
              <a:t>Propósito # 89:</a:t>
            </a: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 ¿fuiste a nadar el verano pasado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0066"/>
                </a:solidFill>
                <a:latin typeface="Calibri"/>
              </a:rPr>
              <a:t>Actividad Inicial:</a:t>
            </a: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Copia y responde usando el P.O.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1. Ayer, ¿compraste el anorak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2. ¿Bajaste la pista sin problema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3. ¿Invitaste a tu amigo a esquia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4. ¿Compraste los boleto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5. ¿Ayudaste a tu amigo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6. ¿Disfrutaste el paseo con tus amigo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Calibri"/>
              </a:rPr>
              <a:t>IR y SER en el PRETERIT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Box 40"/>
          <p:cNvSpPr/>
          <p:nvPr/>
        </p:nvSpPr>
        <p:spPr>
          <a:xfrm>
            <a:off x="228600" y="2362320"/>
            <a:ext cx="86868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 verbs 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IR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(to go)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4000" spc="-1" strike="noStrike">
                <a:solidFill>
                  <a:srgbClr val="cc00ff"/>
                </a:solidFill>
                <a:latin typeface="Times New Roman"/>
              </a:rPr>
              <a:t>SER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(to be)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ar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rregular in the preterit. They share the same forms. The context of a sentence will let you know which is being use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IR </a:t>
            </a:r>
            <a:r>
              <a:rPr b="0" i="1" lang="en-US" sz="4400" spc="-1" strike="noStrike">
                <a:solidFill>
                  <a:srgbClr val="0000ff"/>
                </a:solidFill>
                <a:latin typeface="Calibri"/>
              </a:rPr>
              <a:t>(to go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Content Placeholder 11"/>
          <p:cNvSpPr/>
          <p:nvPr/>
        </p:nvSpPr>
        <p:spPr>
          <a:xfrm>
            <a:off x="380880" y="1523880"/>
            <a:ext cx="8183520" cy="418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Autofit/>
          </a:bodyPr>
          <a:p>
            <a:pPr marL="264960" indent="-2649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3000" spc="-1" strike="noStrike" u="sng">
                <a:solidFill>
                  <a:srgbClr val="000000"/>
                </a:solidFill>
                <a:uFillTx/>
                <a:latin typeface="Arial"/>
              </a:rPr>
              <a:t>Ejemplo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751"/>
              </a:spcBef>
              <a:buClr>
                <a:srgbClr val="1f497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3000" spc="-1" strike="noStrike">
                <a:solidFill>
                  <a:srgbClr val="000000"/>
                </a:solidFill>
                <a:latin typeface="Arial"/>
              </a:rPr>
              <a:t>El verano pasado, </a:t>
            </a:r>
            <a:r>
              <a:rPr b="1" lang="es-DO" sz="3000" spc="-1" strike="noStrike">
                <a:solidFill>
                  <a:srgbClr val="ff0066"/>
                </a:solidFill>
                <a:latin typeface="Arial"/>
              </a:rPr>
              <a:t>yo</a:t>
            </a:r>
            <a:r>
              <a:rPr b="0" lang="es-DO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DO" sz="3000" spc="-1" strike="noStrike" u="sng">
                <a:solidFill>
                  <a:srgbClr val="0000ff"/>
                </a:solidFill>
                <a:uFillTx/>
                <a:latin typeface="Arial"/>
              </a:rPr>
              <a:t>fui</a:t>
            </a:r>
            <a:r>
              <a:rPr b="0" lang="es-DO" sz="3000" spc="-1" strike="noStrike">
                <a:solidFill>
                  <a:srgbClr val="000000"/>
                </a:solidFill>
                <a:latin typeface="Arial"/>
              </a:rPr>
              <a:t> a una estación de esquí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751"/>
              </a:spcBef>
              <a:buClr>
                <a:srgbClr val="1f497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DO" sz="3000" spc="-1" strike="noStrike">
                <a:solidFill>
                  <a:srgbClr val="ff0066"/>
                </a:solidFill>
                <a:latin typeface="Arial"/>
              </a:rPr>
              <a:t>Tú</a:t>
            </a:r>
            <a:r>
              <a:rPr b="0" lang="es-DO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DO" sz="3000" spc="-1" strike="noStrike" u="sng">
                <a:solidFill>
                  <a:srgbClr val="0000ff"/>
                </a:solidFill>
                <a:uFillTx/>
                <a:latin typeface="Arial"/>
              </a:rPr>
              <a:t>fuiste</a:t>
            </a:r>
            <a:r>
              <a:rPr b="0" lang="es-DO" sz="3000" spc="-1" strike="noStrike">
                <a:solidFill>
                  <a:srgbClr val="000000"/>
                </a:solidFill>
                <a:latin typeface="Arial"/>
              </a:rPr>
              <a:t> con tus primo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751"/>
              </a:spcBef>
              <a:buClr>
                <a:srgbClr val="1f497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DO" sz="3000" spc="-1" strike="noStrike">
                <a:solidFill>
                  <a:srgbClr val="ff0066"/>
                </a:solidFill>
                <a:latin typeface="Arial"/>
              </a:rPr>
              <a:t>Ella</a:t>
            </a:r>
            <a:r>
              <a:rPr b="0" lang="es-DO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DO" sz="3000" spc="-1" strike="noStrike" u="sng">
                <a:solidFill>
                  <a:srgbClr val="0000ff"/>
                </a:solidFill>
                <a:uFillTx/>
                <a:latin typeface="Arial"/>
              </a:rPr>
              <a:t>fue</a:t>
            </a:r>
            <a:r>
              <a:rPr b="0" lang="es-DO" sz="3000" spc="-1" strike="noStrike">
                <a:solidFill>
                  <a:srgbClr val="000000"/>
                </a:solidFill>
                <a:latin typeface="Arial"/>
              </a:rPr>
              <a:t> a comprar los boletos en la ventanill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751"/>
              </a:spcBef>
              <a:buClr>
                <a:srgbClr val="1f497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DO" sz="3000" spc="-1" strike="noStrike">
                <a:solidFill>
                  <a:srgbClr val="ff0066"/>
                </a:solidFill>
                <a:latin typeface="Arial"/>
              </a:rPr>
              <a:t>Nosotros</a:t>
            </a:r>
            <a:r>
              <a:rPr b="0" lang="es-DO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DO" sz="3000" spc="-1" strike="noStrike" u="sng">
                <a:solidFill>
                  <a:srgbClr val="0000ff"/>
                </a:solidFill>
                <a:uFillTx/>
                <a:latin typeface="Arial"/>
              </a:rPr>
              <a:t>fuimos</a:t>
            </a:r>
            <a:r>
              <a:rPr b="0" lang="es-DO" sz="3000" spc="-1" strike="noStrike">
                <a:solidFill>
                  <a:srgbClr val="000000"/>
                </a:solidFill>
                <a:latin typeface="Arial"/>
              </a:rPr>
              <a:t> a esquiar a la pist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751"/>
              </a:spcBef>
              <a:buClr>
                <a:srgbClr val="1f497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DO" sz="3000" spc="-1" strike="noStrike">
                <a:solidFill>
                  <a:srgbClr val="ff0066"/>
                </a:solidFill>
                <a:latin typeface="Arial"/>
              </a:rPr>
              <a:t>Ellos</a:t>
            </a:r>
            <a:r>
              <a:rPr b="0" lang="es-DO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DO" sz="3000" spc="-1" strike="noStrike" u="sng">
                <a:solidFill>
                  <a:srgbClr val="0000ff"/>
                </a:solidFill>
                <a:uFillTx/>
                <a:latin typeface="Arial"/>
              </a:rPr>
              <a:t>fueron</a:t>
            </a:r>
            <a:r>
              <a:rPr b="0" lang="es-DO" sz="3000" spc="-1" strike="noStrike">
                <a:solidFill>
                  <a:srgbClr val="000000"/>
                </a:solidFill>
                <a:latin typeface="Arial"/>
              </a:rPr>
              <a:t> a buscar los baton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ff"/>
                </a:solidFill>
                <a:latin typeface="Calibri"/>
              </a:rPr>
              <a:t>SER </a:t>
            </a:r>
            <a:r>
              <a:rPr b="0" i="1" lang="en-US" sz="4400" spc="-1" strike="noStrike">
                <a:solidFill>
                  <a:srgbClr val="cc00ff"/>
                </a:solidFill>
                <a:latin typeface="Calibri"/>
              </a:rPr>
              <a:t>(to be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Content Placeholder 11"/>
          <p:cNvSpPr/>
          <p:nvPr/>
        </p:nvSpPr>
        <p:spPr>
          <a:xfrm>
            <a:off x="228600" y="1828800"/>
            <a:ext cx="8534520" cy="418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Autofit/>
          </a:bodyPr>
          <a:p>
            <a:pPr marL="264960" indent="-2649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3000" spc="-1" strike="noStrike" u="sng">
                <a:solidFill>
                  <a:srgbClr val="000000"/>
                </a:solidFill>
                <a:uFillTx/>
                <a:latin typeface="Arial"/>
              </a:rPr>
              <a:t>Ejemplo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751"/>
              </a:spcBef>
              <a:buClr>
                <a:srgbClr val="1f497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3000" spc="-1" strike="noStrike">
                <a:solidFill>
                  <a:srgbClr val="000000"/>
                </a:solidFill>
                <a:latin typeface="Arial"/>
              </a:rPr>
              <a:t>El verano pasado, </a:t>
            </a:r>
            <a:r>
              <a:rPr b="1" lang="es-DO" sz="3000" spc="-1" strike="noStrike">
                <a:solidFill>
                  <a:srgbClr val="ff0066"/>
                </a:solidFill>
                <a:latin typeface="Arial"/>
              </a:rPr>
              <a:t>yo</a:t>
            </a:r>
            <a:r>
              <a:rPr b="0" lang="es-DO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DO" sz="3000" spc="-1" strike="noStrike" u="sng">
                <a:solidFill>
                  <a:srgbClr val="cc00ff"/>
                </a:solidFill>
                <a:uFillTx/>
                <a:latin typeface="Arial"/>
              </a:rPr>
              <a:t>fui</a:t>
            </a:r>
            <a:r>
              <a:rPr b="0" lang="es-DO" sz="3000" spc="-1" strike="noStrike">
                <a:solidFill>
                  <a:srgbClr val="000000"/>
                </a:solidFill>
                <a:latin typeface="Arial"/>
              </a:rPr>
              <a:t> el que más jugó al teni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751"/>
              </a:spcBef>
              <a:buClr>
                <a:srgbClr val="1f497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DO" sz="3000" spc="-1" strike="noStrike">
                <a:solidFill>
                  <a:srgbClr val="ff0066"/>
                </a:solidFill>
                <a:latin typeface="Arial"/>
              </a:rPr>
              <a:t>Tú</a:t>
            </a:r>
            <a:r>
              <a:rPr b="0" lang="es-DO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DO" sz="3000" spc="-1" strike="noStrike" u="sng">
                <a:solidFill>
                  <a:srgbClr val="cc00ff"/>
                </a:solidFill>
                <a:uFillTx/>
                <a:latin typeface="Arial"/>
              </a:rPr>
              <a:t>fuiste</a:t>
            </a:r>
            <a:r>
              <a:rPr b="0" lang="es-DO" sz="3000" spc="-1" strike="noStrike">
                <a:solidFill>
                  <a:srgbClr val="000000"/>
                </a:solidFill>
                <a:latin typeface="Arial"/>
              </a:rPr>
              <a:t> el que perdió el partido de teni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751"/>
              </a:spcBef>
              <a:buClr>
                <a:srgbClr val="1f497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DO" sz="3000" spc="-1" strike="noStrike">
                <a:solidFill>
                  <a:srgbClr val="ff0066"/>
                </a:solidFill>
                <a:latin typeface="Arial"/>
              </a:rPr>
              <a:t>Ella</a:t>
            </a:r>
            <a:r>
              <a:rPr b="0" lang="es-DO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DO" sz="3000" spc="-1" strike="noStrike" u="sng">
                <a:solidFill>
                  <a:srgbClr val="cc00ff"/>
                </a:solidFill>
                <a:uFillTx/>
                <a:latin typeface="Arial"/>
              </a:rPr>
              <a:t>fue</a:t>
            </a:r>
            <a:r>
              <a:rPr b="0" lang="es-DO" sz="3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s-DO" sz="3000" spc="-1" strike="noStrike">
                <a:solidFill>
                  <a:srgbClr val="000000"/>
                </a:solidFill>
                <a:latin typeface="Arial"/>
              </a:rPr>
              <a:t>la que ganó el partido de teni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751"/>
              </a:spcBef>
              <a:buClr>
                <a:srgbClr val="1f497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DO" sz="3000" spc="-1" strike="noStrike">
                <a:solidFill>
                  <a:srgbClr val="ff0066"/>
                </a:solidFill>
                <a:latin typeface="Arial"/>
              </a:rPr>
              <a:t>Nosotros</a:t>
            </a:r>
            <a:r>
              <a:rPr b="0" lang="es-DO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DO" sz="3000" spc="-1" strike="noStrike" u="sng">
                <a:solidFill>
                  <a:srgbClr val="cc00ff"/>
                </a:solidFill>
                <a:uFillTx/>
                <a:latin typeface="Arial"/>
              </a:rPr>
              <a:t>fuimos</a:t>
            </a:r>
            <a:r>
              <a:rPr b="0" lang="es-DO" sz="3000" spc="-1" strike="noStrike">
                <a:solidFill>
                  <a:srgbClr val="000000"/>
                </a:solidFill>
                <a:latin typeface="Arial"/>
              </a:rPr>
              <a:t> los que mejor esquiamo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751"/>
              </a:spcBef>
              <a:buClr>
                <a:srgbClr val="1f497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DO" sz="3000" spc="-1" strike="noStrike">
                <a:solidFill>
                  <a:srgbClr val="ff0066"/>
                </a:solidFill>
                <a:latin typeface="Arial"/>
              </a:rPr>
              <a:t>Ellos</a:t>
            </a:r>
            <a:r>
              <a:rPr b="0" lang="es-DO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DO" sz="3000" spc="-1" strike="noStrike" u="sng">
                <a:solidFill>
                  <a:srgbClr val="cc00ff"/>
                </a:solidFill>
                <a:uFillTx/>
                <a:latin typeface="Arial"/>
              </a:rPr>
              <a:t>fueron</a:t>
            </a:r>
            <a:r>
              <a:rPr b="0" lang="es-DO" sz="3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s-DO" sz="3000" spc="-1" strike="noStrike">
                <a:solidFill>
                  <a:srgbClr val="000000"/>
                </a:solidFill>
                <a:latin typeface="Arial"/>
              </a:rPr>
              <a:t>los que peor esquiaro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4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4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9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9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160" y="22860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Arial"/>
                <a:ea typeface="Arial"/>
              </a:rPr>
              <a:t>Preterito de verbos</a:t>
            </a:r>
            <a:br>
              <a:rPr sz="4400"/>
            </a:br>
            <a:r>
              <a:rPr b="0" lang="en-US" sz="4400" spc="-1" strike="noStrike">
                <a:solidFill>
                  <a:srgbClr val="ff3399"/>
                </a:solidFill>
                <a:latin typeface="Arial"/>
                <a:ea typeface="Arial"/>
              </a:rPr>
              <a:t>irregulares: -CAR, -GAR, -ZA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2666880" y="3749760"/>
          <a:ext cx="3733920" cy="2803320"/>
        </p:xfrm>
        <a:graphic>
          <a:graphicData uri="http://schemas.openxmlformats.org/drawingml/2006/table">
            <a:tbl>
              <a:tblPr/>
              <a:tblGrid>
                <a:gridCol w="1866960"/>
                <a:gridCol w="1866960"/>
              </a:tblGrid>
              <a:tr h="701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AC Futura Casual"/>
                        </a:rPr>
                        <a:t>Yo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3399"/>
                          </a:solidFill>
                          <a:latin typeface="CAC Futura Casual"/>
                        </a:rPr>
                        <a:t>-car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3399"/>
                          </a:solidFill>
                          <a:latin typeface="CAC Futura Casual"/>
                        </a:rPr>
                        <a:t>-QUé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8000"/>
                          </a:solidFill>
                          <a:latin typeface="CAC Futura Casual"/>
                        </a:rPr>
                        <a:t>-gar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8000"/>
                          </a:solidFill>
                          <a:latin typeface="CAC Futura Casual"/>
                        </a:rPr>
                        <a:t>-GUé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ff"/>
                          </a:solidFill>
                          <a:latin typeface="CAC Futura Casual"/>
                        </a:rPr>
                        <a:t>-zar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ff"/>
                          </a:solidFill>
                          <a:latin typeface="CAC Futura Casual"/>
                        </a:rPr>
                        <a:t>-Cé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5"/>
          <p:cNvSpPr/>
          <p:nvPr/>
        </p:nvSpPr>
        <p:spPr>
          <a:xfrm>
            <a:off x="685800" y="1828800"/>
            <a:ext cx="830592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C Futura Casual"/>
              </a:rPr>
              <a:t>Remember that when a verb ends in –CAR, -GAR or –ZAR there are special conjugation rules for the YO for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533160" y="13716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er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Los pronombres de objeto directo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de la hoja distribuid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leten lo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Ejercicios A-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en la hoja distribuid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839880" y="152280"/>
            <a:ext cx="7313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99"/>
                </a:solidFill>
                <a:latin typeface="CAC Futura Casual"/>
              </a:rPr>
              <a:t>Tarea # 8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2T00:45:20Z</dcterms:created>
  <dc:creator>Helen Zumaeta</dc:creator>
  <dc:description/>
  <dc:language>en-US</dc:language>
  <cp:lastModifiedBy>Helen Zumaeta</cp:lastModifiedBy>
  <cp:lastPrinted>2013-06-05T14:22:12Z</cp:lastPrinted>
  <dcterms:modified xsi:type="dcterms:W3CDTF">2013-06-05T15:31:35Z</dcterms:modified>
  <cp:revision>23</cp:revision>
  <dc:subject/>
  <dc:title>Me llamo _______      Clase 7IM La fecha es el 2 de mayo del 2012</dc:title>
</cp:coreProperties>
</file>